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17702"/>
        <c:axId val="21768619"/>
      </c:barChart>
      <c:catAx>
        <c:axId val="99117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68619"/>
        <c:crosses val="autoZero"/>
        <c:auto val="1"/>
        <c:lblAlgn val="ctr"/>
        <c:lblOffset val="100"/>
        <c:noMultiLvlLbl val="0"/>
      </c:catAx>
      <c:valAx>
        <c:axId val="21768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17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590-C767-4691-B41E-EE3C148D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94D-EE94-482F-9E4B-191433B2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E97-260B-4A18-B92D-587A2917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58C-4EFB-49B8-BFA7-68F8AD7B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4B5-62EC-45A7-9CF2-C3A052B0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590-70E6-433B-9EC0-BC39C450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46E-C0B5-48B7-9DE0-DA4EA0B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779-050D-4913-84B4-010B2526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6A7-F08A-4374-AB98-E44CBBF2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761-483E-415A-AD1F-6923CDDF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8F9-25BB-466E-B37C-708A8327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9AF-BDA4-49F2-B707-F8E02751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78F31-FFAE-420C-80FB-5CD4AE56C0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