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81978"/>
        <c:axId val="40097887"/>
      </c:barChart>
      <c:catAx>
        <c:axId val="62181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97887"/>
        <c:crosses val="autoZero"/>
        <c:auto val="1"/>
        <c:lblAlgn val="ctr"/>
        <c:lblOffset val="100"/>
        <c:noMultiLvlLbl val="0"/>
      </c:catAx>
      <c:valAx>
        <c:axId val="40097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1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0F6-787E-45C8-A862-B7F93CBF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99E-C859-48D2-8591-F2AC091B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E83-C70C-44B4-8C9F-B62AACAB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441-1869-431C-BAC6-77BDA9DA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56C-38C7-4F45-BE86-8DEBEBD0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2C2-45D8-47B3-B211-C5B25B23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1F1-52FB-4FC3-BBB6-8D0EE70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851-9474-403A-8A51-AF385A6A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437-C578-493E-8458-AD19FF0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A4C-630A-46DA-83F9-5D80193A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BB3-2C20-4C4B-9E98-7F9D381D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1FF-FDF8-475E-B5A9-79F233A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51A00-7B5F-40FE-B713-4EB4A54FC1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