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03830"/>
        <c:axId val="41469143"/>
      </c:barChart>
      <c:catAx>
        <c:axId val="51303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69143"/>
        <c:crosses val="autoZero"/>
        <c:auto val="1"/>
        <c:lblAlgn val="ctr"/>
        <c:lblOffset val="100"/>
        <c:noMultiLvlLbl val="0"/>
      </c:catAx>
      <c:valAx>
        <c:axId val="41469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03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69A-69D2-4D64-B781-AA850E5E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326-2999-4864-9C70-E0C7C1C8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7C2-309E-4523-823A-F10A2A22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EE1-3915-4EF0-8CF0-7D0B0B50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8D0-740F-4FEB-9359-110D1FB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0DD-916A-46AB-816C-F393295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C83-BE54-4BF3-A8F4-41ACC25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E12-4F9D-4DA7-83A7-6437560A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C8D-3CF3-4CD7-AC4E-A0DFE899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614-2927-486B-AE44-60BE89B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075-AB81-4A99-A9D0-4A266EE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D08-F172-40D6-B6B7-F458357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A0432-AFA4-4F70-A526-D12481666E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