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827886"/>
        <c:axId val="91151809"/>
      </c:barChart>
      <c:catAx>
        <c:axId val="508278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151809"/>
        <c:crosses val="autoZero"/>
        <c:auto val="1"/>
        <c:lblAlgn val="ctr"/>
        <c:lblOffset val="100"/>
        <c:noMultiLvlLbl val="0"/>
      </c:catAx>
      <c:valAx>
        <c:axId val="911518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8278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44CF-F46C-4DF3-9680-1F2E288A9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8FC8-B9D1-48F4-84CE-56D15DE6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8013-963E-4C7D-A8B8-0378DDF07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39A0-68F0-4725-B84D-3C92AEB32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2E83-F291-409D-B84E-69EB67F7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1CA5-DEEC-4AF3-8012-285E059A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EC9A-1798-41C3-BF37-1FC23D09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AC98-BF35-46B7-B3E5-1E5BA901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0BFA-63B5-4750-BB24-1DD61788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54D4-14B1-475F-BF23-8BE6FB1F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59C9-09E0-47A0-AE33-E603D176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FF47-06EC-408C-BCD6-603ED582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674D0B-7214-490E-B7BF-B171717E9E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