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44076"/>
        <c:axId val="654116"/>
      </c:barChart>
      <c:catAx>
        <c:axId val="83044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16"/>
        <c:crosses val="autoZero"/>
        <c:auto val="1"/>
        <c:lblAlgn val="ctr"/>
        <c:lblOffset val="100"/>
        <c:noMultiLvlLbl val="0"/>
      </c:catAx>
      <c:valAx>
        <c:axId val="65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4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DC6-53DA-48BC-B87A-A2DCDD9C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A36-6CF6-4AED-829C-96B8CCD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455-2947-4047-B5F8-D3819642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881-783E-43D4-A1F6-E3A8B8F2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1D7-6212-4918-A00F-7283228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BD6-9979-4203-B11A-F7AB222D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DCD-B2AC-4F4E-A202-42C852D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F28-D5CB-43EE-A72D-05D1CB8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CB3-C00E-46B0-AFE2-B682349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07E-B980-4A10-AC7D-A6FF144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768-2AEA-4D13-AA6E-31DC670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964-5926-45BF-A2DB-FD4986E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A4F07-6199-4274-890D-39FAEE79E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