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76554"/>
        <c:axId val="94033948"/>
      </c:barChart>
      <c:catAx>
        <c:axId val="32676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33948"/>
        <c:crosses val="autoZero"/>
        <c:auto val="1"/>
        <c:lblAlgn val="ctr"/>
        <c:lblOffset val="100"/>
        <c:noMultiLvlLbl val="0"/>
      </c:catAx>
      <c:valAx>
        <c:axId val="94033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76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332-470E-400F-A5E1-FB126284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296-ED2A-4349-BA5A-F9CF06D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18B-0487-493B-80CB-D907666F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ACD-D7C5-4D2D-BA7D-0B9D1D03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DF6-4ECB-4999-AB66-491E49B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592-C0CC-4A85-9675-C8544D8D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087-6378-4CAB-9D1E-DCDDDA8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96E-0CED-4353-A66F-F956F41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6B7-66C0-47F9-A8C8-6EE63EDD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836-EAB8-4189-A4DC-9348FE4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F3B-A6C0-41AB-9184-01C35819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886-E207-4593-A2C7-53D57EDD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CBE2C-FDE3-49E5-B3EA-6C11D20976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