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849346"/>
        <c:axId val="49343285"/>
      </c:barChart>
      <c:catAx>
        <c:axId val="548493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43285"/>
        <c:crosses val="autoZero"/>
        <c:auto val="1"/>
        <c:lblAlgn val="ctr"/>
        <c:lblOffset val="100"/>
        <c:noMultiLvlLbl val="0"/>
      </c:catAx>
      <c:valAx>
        <c:axId val="493432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493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E630-9553-4AB0-A3E0-8B962F7C4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F06C-1AED-4E86-B481-14A26CC6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E98A-77AB-4711-9E04-9FAB7858A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DD65-C25D-4931-9277-865564148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54EE-59E8-4ED0-9A78-B8238AE2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FAB2-0754-4E2C-9C64-01BE2EC7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8388-E132-414F-BB9C-D4B55AD1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00A1-9EC3-4AE2-8422-0A9BEB14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1298-EAF5-4AD8-A707-877B7A45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E86E-C994-44D5-8EC9-EA8A47B3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2DFB-7754-436C-A191-01B56291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540A-6DED-480F-87EB-714BEE0E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286A6-85CA-4289-9275-F370CEF5BE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