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18100"/>
        <c:axId val="65017551"/>
      </c:barChart>
      <c:catAx>
        <c:axId val="75418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17551"/>
        <c:crosses val="autoZero"/>
        <c:auto val="1"/>
        <c:lblAlgn val="ctr"/>
        <c:lblOffset val="100"/>
        <c:noMultiLvlLbl val="0"/>
      </c:catAx>
      <c:valAx>
        <c:axId val="65017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18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783-9DF1-4E8B-B087-30A962FD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F66-7DE4-41ED-B9FE-BDB0D06E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2E9-E3F0-4A7B-9379-C246979F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BFD-388A-4321-B3BB-593F8E68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643-E81F-4E4E-A954-460213F9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D55-09B8-4C23-A6A2-D9547461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A56-EEB5-4A83-820A-97E44841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1F4D-072D-41EE-8FA5-EAD8439B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5A6-9DF1-440C-B847-3430F345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282-9381-4026-B193-87C1F3AC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30B-2488-4767-B6A9-D572534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BE2-D26E-4D2C-A26E-755E92FC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FD993-BCAE-44A7-B1C8-318A08B5DF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