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98152"/>
        <c:axId val="46356734"/>
      </c:barChart>
      <c:catAx>
        <c:axId val="71298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56734"/>
        <c:crosses val="autoZero"/>
        <c:auto val="1"/>
        <c:lblAlgn val="ctr"/>
        <c:lblOffset val="100"/>
        <c:noMultiLvlLbl val="0"/>
      </c:catAx>
      <c:valAx>
        <c:axId val="46356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98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58E-859E-4C07-868B-4702E2E3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D4F-11A8-4BF2-B431-AD9FC253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64C-9345-4993-807F-47DA38AC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693-78FB-4A3D-A81D-165EC6BD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2F4-AD57-4A96-8CE6-7B9C3FDC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794-F606-4FBF-8ADF-07828D99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3EA-2C8B-45C0-983A-069036E5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6E9-ECD9-430A-9B0C-748950D8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588-7342-4409-9D7E-E6613827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BED-84AE-4DEC-A895-A1AE53D1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06A-1730-402F-8418-51B03319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A63-13E8-4EA0-8A02-A98B7A56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49707-FCEE-4E12-B798-804F8B65C0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