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791797"/>
        <c:axId val="44307541"/>
      </c:barChart>
      <c:catAx>
        <c:axId val="717917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07541"/>
        <c:crosses val="autoZero"/>
        <c:auto val="1"/>
        <c:lblAlgn val="ctr"/>
        <c:lblOffset val="100"/>
        <c:noMultiLvlLbl val="0"/>
      </c:catAx>
      <c:valAx>
        <c:axId val="44307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917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909A-4EBE-4030-9470-F022FE1B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D2B8-F26C-4C7A-B017-98B61208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25D9-6A0B-48BC-AC47-BED05298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6F68-F50E-4A74-9B43-82106142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5EF-7EA1-4E77-BCD8-9BBF1228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BA5-4AEE-4845-9939-A7C1A5E5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AC19-E50E-4EA5-9B03-FA0A3D59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ECB-29CE-4DF9-AA79-3AF2DE06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C34B-8AD4-4B4F-9E97-21490000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D19E-E356-473D-B2E3-9BC06802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B391-AF53-4FDF-B096-39595F1E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BE76-A39B-43D4-86BF-D1F07EE5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E96D9-1D3B-4E12-A268-8B30328A23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