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38825"/>
        <c:axId val="18136254"/>
      </c:barChart>
      <c:catAx>
        <c:axId val="82338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36254"/>
        <c:crosses val="autoZero"/>
        <c:auto val="1"/>
        <c:lblAlgn val="ctr"/>
        <c:lblOffset val="100"/>
        <c:noMultiLvlLbl val="0"/>
      </c:catAx>
      <c:valAx>
        <c:axId val="18136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38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D2C-D566-4E72-8D22-4462373B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4BE-920D-4144-9FFE-F819E88A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960-96DA-4512-823A-8EE3EB41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1C6-B410-4164-ADCE-F02D2B9D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5DE-EA4E-4C42-9933-4A5B820F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08B-9535-4507-A830-9CEABA74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1F6-E7E3-474E-9514-7FE12516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1FB-6DAE-432D-A321-78DB872B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B38-6E41-4373-A38A-1FBEA191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CED-AEC1-4E52-BA67-BA20FBD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8BF-EE5C-49AC-87C3-77DA322D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AD7-FC73-4292-81D4-C45E6459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44B05-9F8F-4247-8554-4E840E9347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