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016291"/>
        <c:axId val="44013156"/>
      </c:barChart>
      <c:catAx>
        <c:axId val="850162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013156"/>
        <c:crosses val="autoZero"/>
        <c:auto val="1"/>
        <c:lblAlgn val="ctr"/>
        <c:lblOffset val="100"/>
        <c:noMultiLvlLbl val="0"/>
      </c:catAx>
      <c:valAx>
        <c:axId val="440131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162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D141-F0AC-46AC-AE45-D88A3816E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0560-85AA-4907-93FC-6D1C2B80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22FA-EED3-459E-8524-F98D2F8E5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6CEE-009F-45A1-9277-5C7273D71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E8E3-FE4F-4C83-8CFD-1C75F279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0821-ED34-4AA9-B673-EC5D3CC7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DA16-2A5B-4E40-ACD6-F98E70AE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A6B6-DEE2-4E50-9161-714C3A13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140C-FBDB-4AF0-8497-87CC9555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71F0-93AF-41CD-B509-89E7448C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7B84-9E63-4AFE-9952-9F0D1AF6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63AE-9660-44C8-AF8F-74021A43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C442A-9EC3-49AE-BB50-6AED71FB10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