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41940"/>
        <c:axId val="82404889"/>
      </c:barChart>
      <c:catAx>
        <c:axId val="45841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4889"/>
        <c:crosses val="autoZero"/>
        <c:auto val="1"/>
        <c:lblAlgn val="ctr"/>
        <c:lblOffset val="100"/>
        <c:noMultiLvlLbl val="0"/>
      </c:catAx>
      <c:valAx>
        <c:axId val="82404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41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00D-B210-4501-881A-5AAB461B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4C7-CCCE-4200-848E-FBB8924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E76-54C0-4975-BC85-7439E9AB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0D2-CF49-470B-82CF-165CC198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303-8800-4835-BD0B-9D27D79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29A-420F-403D-9FD0-17B14277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39D-B3E9-40FC-BBA2-1E7C19F2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1C1-5198-4E54-8F24-E9A9E366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BB8-80FB-46FC-815D-6E37EB9B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6B2-225A-4C2D-9BFA-2F9BD3E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F7B-3E7E-450B-820F-A11CEBD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266-8F27-44A8-8F6D-5DA8489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A057-57F8-48BB-B0C4-9C104D22F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