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94801"/>
        <c:axId val="95618799"/>
      </c:barChart>
      <c:catAx>
        <c:axId val="90948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618799"/>
        <c:crosses val="autoZero"/>
        <c:auto val="1"/>
        <c:lblAlgn val="ctr"/>
        <c:lblOffset val="100"/>
        <c:noMultiLvlLbl val="0"/>
      </c:catAx>
      <c:valAx>
        <c:axId val="956187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948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F188-4785-4B24-9AD5-C2D756EE8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CBBC-866F-48E8-AEC1-7F2E01D10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D51C-A740-462E-BA70-5324F36CD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2CF6-C351-4731-A140-7707FB632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28CC-55EF-4774-BFF8-75A76B1DE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6679-5D33-4F2C-9FAF-E043E42EE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2D05-DC9C-4658-8874-E446F4AF0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0672-1D82-48C6-ADC9-ACDB45DAD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56CB-1F16-4525-A0FF-EE1861BA8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F70F-BEC5-47C7-B31A-739D028C8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AF04-0256-400F-ACB8-DCA07DB00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EC14-B5C0-4BA0-A3D7-D0296272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3F9C9E-7D86-4600-A8F2-D5B60F1E766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