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24706"/>
        <c:axId val="68282642"/>
      </c:barChart>
      <c:catAx>
        <c:axId val="53247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82642"/>
        <c:crosses val="autoZero"/>
        <c:auto val="1"/>
        <c:lblAlgn val="ctr"/>
        <c:lblOffset val="100"/>
        <c:noMultiLvlLbl val="0"/>
      </c:catAx>
      <c:valAx>
        <c:axId val="682826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47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5DC8-7B80-4363-B96A-B852D723C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A992-552A-48DB-862A-111614C8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5892-8CE9-4559-AD56-EA8BB1F11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A0D2-27E3-4E25-AEF1-557CFEE0A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4BAF-2009-4EE9-99FA-6B6D8E54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F674-E721-4D96-ABD6-4B39D510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10E1-1CED-42C3-B6B4-DD2535EF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032B-C4DF-4532-A837-F6D7F9D5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794B-3F32-4875-891A-3BF594EB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91B0-BC1F-471B-BBF4-E2BFD99C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BC38-DD1C-40A7-8F72-DE8C1D40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B5D7-ECCA-426F-8AE4-F4D6DF2B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434C4-EB69-489C-B218-5DE6065A6E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