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59104"/>
        <c:axId val="66094815"/>
      </c:barChart>
      <c:catAx>
        <c:axId val="66859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94815"/>
        <c:crosses val="autoZero"/>
        <c:auto val="1"/>
        <c:lblAlgn val="ctr"/>
        <c:lblOffset val="100"/>
        <c:noMultiLvlLbl val="0"/>
      </c:catAx>
      <c:valAx>
        <c:axId val="66094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59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781-23C8-4FB8-971B-46BAF696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C54-BB4C-4B09-9430-BC6CA06E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EA8-AC03-4922-AB47-0361C836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1B1-D37E-47A1-937E-86472FA4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D1C-44BE-467C-B6BD-4FED0B88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036-7483-45A4-8C52-FAC0AED0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872-384D-46EA-9363-F55CB9A5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DA1-4D0F-44CC-AA34-3B6EF515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66B-A29B-40B5-8E9B-69A251C0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624-C114-4450-AD7D-443CD58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BB0-8CC1-4DF3-A716-C759C02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784-F877-45EF-A1B2-B1F74DC1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2E0FE-D72D-4EE4-85B7-A41F9C42A5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