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49279"/>
        <c:axId val="876841"/>
      </c:barChart>
      <c:catAx>
        <c:axId val="11049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841"/>
        <c:crosses val="autoZero"/>
        <c:auto val="1"/>
        <c:lblAlgn val="ctr"/>
        <c:lblOffset val="100"/>
        <c:noMultiLvlLbl val="0"/>
      </c:catAx>
      <c:valAx>
        <c:axId val="876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49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CB0-36B5-47FE-B8A6-BEBE2D73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DA9-C1D1-490A-B17A-BFE1A8C8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D29-940A-4C2B-BE05-5955443C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C4D-D606-4933-9A6C-AC1421D3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D69-1F01-4361-9A58-A7514062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F44-4E88-4FDB-BFCD-1868D6E7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44F-1FAA-4BC2-AE5B-1C5AAADA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BCF-4AB9-41AF-9E64-AFDC86D6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0DB-1168-4E8E-B9EA-8DEAC06D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911E-357E-420B-8C56-E16C0CF8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7F2-3CEE-4444-9A69-8C0B00C6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840-8E23-49F8-9A42-16C210C4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F9C7D-0637-4ADE-9572-D0DEE143C9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