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83256"/>
        <c:axId val="56314232"/>
      </c:barChart>
      <c:catAx>
        <c:axId val="17083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4232"/>
        <c:crosses val="autoZero"/>
        <c:auto val="1"/>
        <c:lblAlgn val="ctr"/>
        <c:lblOffset val="100"/>
        <c:noMultiLvlLbl val="0"/>
      </c:catAx>
      <c:valAx>
        <c:axId val="56314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83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371-B07B-4B98-A459-3C8CC6FD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FB4-F1FC-48ED-AC8C-8AF8D00A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B31-1322-44CB-BC16-A9FA5329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7F7-D037-4043-9678-23C99281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985-4FBA-46E1-9386-B2DCD6E5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5AD-9AF5-4DE7-8501-B957AEA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7B7-6B77-4922-910D-5A2AD39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DFA-6C32-48B2-BB83-0FCF830C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1A1-76CD-45AF-AB79-3222A1C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C00-8B1C-4279-A4DA-18EBDB0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B43-3B17-464B-AE1F-B22DD34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295-B35B-4798-AA9D-8459B62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8149-A521-41C6-9ADD-C50390A2E2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